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0993-6E68-45B1-891D-06FC1E9A37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151E-C65E-4DFC-85EC-260C42A9DE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65AA-E823-4581-8CCD-A15C5E732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EDD7-E884-4B34-9977-D90891A769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304B-F1BC-4FEF-B0DA-BCE5CD9455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C212-0A2E-43D1-906C-570FFB06C8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9853-8306-41C5-AB9C-8EB945B352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F09-2365-453E-9A08-0B7B8069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DD7-91BD-4035-BAD8-CFE8146F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71E-6CA7-4EE2-BDBD-A3624F4F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918-944E-4BA4-BE0A-ED30B02E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DF8-291D-4730-88FD-1295BAD7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1C1-5812-4B1B-83B3-C084713D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2BE-5B78-4307-B794-C2CC852D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742-6543-4F9C-A83B-70BEAEA1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D52-4387-470F-9281-8610080A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108-BBCE-44AE-84B0-1B8D3205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8C7-1524-4CD6-8460-41FFD7A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F4E-AFE5-48B0-8D74-898BF8B1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18A1-DA49-4402-BD7C-8A81019CB1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2" descr="C:\Objective\Home\habe\swindon-docs\Objects\Belmont#2.jpg"/>
          <p:cNvPicPr/>
          <p:nvPr/>
        </p:nvPicPr>
        <p:blipFill>
          <a:blip r:embed="rId2"/>
          <a:stretch/>
        </p:blipFill>
        <p:spPr>
          <a:xfrm>
            <a:off x="-3240" y="0"/>
            <a:ext cx="1550880" cy="447840"/>
          </a:xfrm>
          <a:prstGeom prst="rect">
            <a:avLst/>
          </a:prstGeom>
          <a:ln w="0">
            <a:noFill/>
          </a:ln>
        </p:spPr>
      </p:pic>
      <p:pic>
        <p:nvPicPr>
          <p:cNvPr id="6" name="Content Placeholder 6" descr="igfa logo.JPG"/>
          <p:cNvPicPr/>
          <p:nvPr/>
        </p:nvPicPr>
        <p:blipFill>
          <a:blip r:embed="rId3"/>
          <a:stretch/>
        </p:blipFill>
        <p:spPr>
          <a:xfrm>
            <a:off x="8317080" y="44280"/>
            <a:ext cx="792000" cy="4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elmontforum.org/io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elmont_secretariat@usgcrp.gov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15968"/>
                </a:solidFill>
                <a:latin typeface="Calibri"/>
              </a:rPr>
              <a:t>How define and implement a Funding Strategy for Future Earth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55640" y="115560"/>
            <a:ext cx="530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215968"/>
                </a:solidFill>
                <a:latin typeface="Calibri"/>
              </a:rPr>
              <a:t>IOF 2012 : early contributions to Future Eart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280" y="1628280"/>
            <a:ext cx="9126360" cy="33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CRAs on </a:t>
            </a:r>
            <a:r>
              <a:rPr b="1" lang="en-GB" sz="2300" spc="-1" strike="noStrike">
                <a:solidFill>
                  <a:srgbClr val="215968"/>
                </a:solidFill>
                <a:latin typeface="Calibri"/>
              </a:rPr>
              <a:t>Freshwater Security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(NSF lead) </a:t>
            </a:r>
            <a:r>
              <a:rPr b="1" lang="en-GB" sz="2300" spc="-1" strike="noStrike">
                <a:solidFill>
                  <a:srgbClr val="215968"/>
                </a:solidFill>
                <a:latin typeface="Calibri"/>
              </a:rPr>
              <a:t>and </a:t>
            </a:r>
            <a:r>
              <a:rPr b="1" lang="en-US" sz="2300" spc="-1" strike="noStrike">
                <a:solidFill>
                  <a:srgbClr val="215968"/>
                </a:solidFill>
                <a:latin typeface="Calibri"/>
              </a:rPr>
              <a:t>Coastal Vulnerability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NERC lead), joint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ith G8HORCs,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ynchronized with FP7 and NSERC,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20+ M€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99960" indent="-3427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000" y="2852280"/>
            <a:ext cx="9107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130 pre-proposals,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volving more than </a:t>
            </a: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1000 partners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0" lang="en-US" sz="2400" spc="-1" strike="noStrike">
                <a:solidFill>
                  <a:srgbClr val="215968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 50 countries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 selection for full proposals for 3-yea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4" descr="drought"/>
          <p:cNvPicPr/>
          <p:nvPr/>
        </p:nvPicPr>
        <p:blipFill>
          <a:blip r:embed="rId1"/>
          <a:stretch/>
        </p:blipFill>
        <p:spPr>
          <a:xfrm>
            <a:off x="17640" y="5175360"/>
            <a:ext cx="2158920" cy="166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coastal wave"/>
          <p:cNvPicPr/>
          <p:nvPr/>
        </p:nvPicPr>
        <p:blipFill>
          <a:blip r:embed="rId2"/>
          <a:stretch/>
        </p:blipFill>
        <p:spPr>
          <a:xfrm>
            <a:off x="2268360" y="3933720"/>
            <a:ext cx="2160720" cy="1640160"/>
          </a:xfrm>
          <a:prstGeom prst="rect">
            <a:avLst/>
          </a:prstGeom>
          <a:ln w="0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5076720" y="4076640"/>
            <a:ext cx="3892680" cy="2746440"/>
          </a:xfrm>
          <a:prstGeom prst="rect">
            <a:avLst/>
          </a:prstGeom>
          <a:noFill/>
          <a:ln w="381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April 2012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Call ope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July 2012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Deadline for pre-propos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September 2012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Notification to submit full propos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December 2012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Deadline for full propos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April/May 2013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Official funding deci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further details see: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belmontforum.org/iof</a:t>
            </a: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320"/>
            <a:ext cx="550728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968"/>
                </a:solidFill>
                <a:latin typeface="Calibri"/>
              </a:rPr>
              <a:t>IOF/CRAs for 2013 and beyo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1197000"/>
            <a:ext cx="91440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mes,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under scoping by GEC/Future Earth scientists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+ fu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od Security and Land Use Change (FAPESP lead, workshop dec.2012 in SP)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CCAFS and JPI FAC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-infrastructure  (NSF lead, workshop dec.2012 in S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tic, NSERC lead, second workshop to be pla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call to be opened spring 201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for 2014-2018 fu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potential themes f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14 and beyo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need Future Earth inputs &amp; SSC endors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diversity &amp; Ecosystem Services (for IPBES)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services, with WMO ? JPI Climate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en Growth, Disaster Risks, with WB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rica, with AID agencies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 others ideas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r">
              <a:lnSpc>
                <a:spcPct val="100000"/>
              </a:lnSpc>
              <a:buClr>
                <a:srgbClr val="c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Deadline for consideration by upcoming Delhi Belmont Forum: Jan. 11</a:t>
            </a:r>
            <a:r>
              <a:rPr b="1" lang="en-US" sz="2000" spc="-1" strike="noStrike" baseline="30000">
                <a:solidFill>
                  <a:srgbClr val="c00000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, 2013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elmont_secretariat@usgcrp.g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8223120" y="2349360"/>
            <a:ext cx="8431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773000"/>
            <a:ext cx="80629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215968"/>
                </a:solidFill>
                <a:latin typeface="Brush Script MT"/>
              </a:rPr>
              <a:t>Thanks for your attention, involvement and ideas to </a:t>
            </a:r>
            <a:r>
              <a:rPr b="1" i="1" lang="en-GB" sz="4800" spc="-1" strike="noStrike">
                <a:solidFill>
                  <a:srgbClr val="215968"/>
                </a:solidFill>
                <a:latin typeface="Brush Script MT"/>
              </a:rPr>
              <a:t>co-design</a:t>
            </a:r>
            <a:r>
              <a:rPr b="0" i="1" lang="en-GB" sz="4800" spc="-1" strike="noStrike">
                <a:solidFill>
                  <a:srgbClr val="215968"/>
                </a:solidFill>
                <a:latin typeface="Brush Script MT"/>
              </a:rPr>
              <a:t> </a:t>
            </a:r>
            <a:br>
              <a:rPr sz="4800"/>
            </a:br>
            <a:r>
              <a:rPr b="0" i="1" lang="en-GB" sz="4800" spc="-1" strike="noStrike">
                <a:solidFill>
                  <a:srgbClr val="215968"/>
                </a:solidFill>
                <a:latin typeface="Brush Script MT"/>
              </a:rPr>
              <a:t>FE Funding Strategy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15968"/>
                </a:solidFill>
                <a:latin typeface="Calibri"/>
              </a:rPr>
              <a:t>Extra slides on </a:t>
            </a:r>
            <a:br>
              <a:rPr sz="4000"/>
            </a:br>
            <a:r>
              <a:rPr b="1" lang="en-GB" sz="4000" spc="-1" strike="noStrike">
                <a:solidFill>
                  <a:srgbClr val="215968"/>
                </a:solidFill>
                <a:latin typeface="Calibri"/>
              </a:rPr>
              <a:t>Belmont Forum CR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oneTexte 3"/>
          <p:cNvSpPr/>
          <p:nvPr/>
        </p:nvSpPr>
        <p:spPr>
          <a:xfrm>
            <a:off x="611280" y="692280"/>
            <a:ext cx="748980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ll for ideas of ne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aborative Research Actions (CR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be launched in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dline for submission: 11/01/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tain template for submission, please contact the Belmont Forum secretar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belmont_secretariat@usgcrp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oneTexte 3"/>
          <p:cNvSpPr/>
          <p:nvPr/>
        </p:nvSpPr>
        <p:spPr>
          <a:xfrm>
            <a:off x="250920" y="692280"/>
            <a:ext cx="8497800" cy="51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late for submission of idea of ne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laborative Research Ac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A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a6a6a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Lead and co-lea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knowledge gap that the call should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ed value for the research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ed value for research fu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ibution to the Belmont challenges and Future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priate incentive tools and call time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funding / co-alignment partners (Joint Programme Initiatives, Aid Agencie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a6a6a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Work plan (including Scoping Worksh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15968"/>
                </a:solidFill>
                <a:latin typeface="Calibri"/>
              </a:rPr>
              <a:t>Extra slides on </a:t>
            </a:r>
            <a:br>
              <a:rPr sz="4000"/>
            </a:br>
            <a:r>
              <a:rPr b="1" lang="en-GB" sz="4000" spc="-1" strike="noStrike">
                <a:solidFill>
                  <a:srgbClr val="215968"/>
                </a:solidFill>
                <a:latin typeface="Calibri"/>
              </a:rPr>
              <a:t>Mapping the GEC Landscape</a:t>
            </a:r>
            <a:br>
              <a:rPr sz="4000"/>
            </a:br>
            <a:r>
              <a:rPr b="0" i="1" lang="en-GB" sz="4000" spc="-1" strike="noStrike">
                <a:solidFill>
                  <a:srgbClr val="215968"/>
                </a:solidFill>
                <a:latin typeface="Calibri"/>
              </a:rPr>
              <a:t>(from Kevin Noo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15968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5968"/>
                </a:solidFill>
                <a:latin typeface="Calibri"/>
              </a:rPr>
              <a:t>Extra slides on Transition Management Project Boa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FE Transition Management Project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197000"/>
          <a:ext cx="8569080" cy="5403960"/>
        </p:xfrm>
        <a:graphic>
          <a:graphicData uri="http://schemas.openxmlformats.org/drawingml/2006/table">
            <a:tbl>
              <a:tblPr/>
              <a:tblGrid>
                <a:gridCol w="2887560"/>
                <a:gridCol w="2817720"/>
                <a:gridCol w="2863800"/>
              </a:tblGrid>
              <a:tr h="455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pac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ing with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a6a6a6"/>
                          </a:solidFill>
                          <a:latin typeface="Calibri"/>
                          <a:ea typeface="Calibri"/>
                        </a:rPr>
                        <a:t>1. Initial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a6a6a6"/>
                          </a:solidFill>
                          <a:latin typeface="Calibri"/>
                          <a:ea typeface="Calibri"/>
                        </a:rPr>
                        <a:t>TT co-cha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a6a6a6"/>
                          </a:solidFill>
                          <a:latin typeface="Calibri"/>
                          <a:ea typeface="Calibri"/>
                        </a:rPr>
                        <a:t>ICSU secretariat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Transition appro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CSU 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 Alliance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3. Fu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IGFA/BF co-cha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P. Monfray in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Alliance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IGFA/BF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GEC Secretariats and I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Regional nodes (APN, IAI, START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Gover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CSU/ISSC 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 from ICSU and GEC Secretari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Community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CSU/ISSC 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 Alliance members and support from the ICSU and GEC secretaria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The funding fragmentation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rapèze 4"/>
          <p:cNvSpPr/>
          <p:nvPr/>
        </p:nvSpPr>
        <p:spPr>
          <a:xfrm>
            <a:off x="1401840" y="4059360"/>
            <a:ext cx="4535280" cy="12240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* M€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mergent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rapèze 5"/>
          <p:cNvSpPr/>
          <p:nvPr/>
        </p:nvSpPr>
        <p:spPr>
          <a:xfrm>
            <a:off x="2173320" y="2836800"/>
            <a:ext cx="3008160" cy="1224000"/>
          </a:xfrm>
          <a:custGeom>
            <a:avLst/>
            <a:gdLst/>
            <a:ahLst/>
            <a:rect l="l" t="t" r="r" b="b"/>
            <a:pathLst>
              <a:path w="3008287" h="1224136">
                <a:moveTo>
                  <a:pt x="0" y="1224136"/>
                </a:moveTo>
                <a:lnTo>
                  <a:pt x="763237" y="0"/>
                </a:lnTo>
                <a:lnTo>
                  <a:pt x="2245050" y="0"/>
                </a:lnTo>
                <a:lnTo>
                  <a:pt x="3008287" y="1224136"/>
                </a:lnTo>
                <a:lnTo>
                  <a:pt x="0" y="1224136"/>
                </a:lnTo>
                <a:close/>
              </a:path>
            </a:pathLst>
          </a:cu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rapèze 6"/>
          <p:cNvSpPr/>
          <p:nvPr/>
        </p:nvSpPr>
        <p:spPr>
          <a:xfrm>
            <a:off x="2930400" y="1623960"/>
            <a:ext cx="1486080" cy="1224000"/>
          </a:xfrm>
          <a:custGeom>
            <a:avLst/>
            <a:gdLst/>
            <a:ahLst/>
            <a:rect l="l" t="t" r="r" b="b"/>
            <a:pathLst>
              <a:path w="1485899" h="1224136">
                <a:moveTo>
                  <a:pt x="0" y="1224136"/>
                </a:moveTo>
                <a:lnTo>
                  <a:pt x="742950" y="0"/>
                </a:lnTo>
                <a:lnTo>
                  <a:pt x="742950" y="0"/>
                </a:lnTo>
                <a:lnTo>
                  <a:pt x="1485899" y="1224136"/>
                </a:lnTo>
                <a:lnTo>
                  <a:pt x="0" y="1224136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65120" y="3282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422360" y="2268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7920" y="6464160"/>
            <a:ext cx="20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* Typical Money Un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rapèze 18"/>
          <p:cNvSpPr/>
          <p:nvPr/>
        </p:nvSpPr>
        <p:spPr>
          <a:xfrm>
            <a:off x="636480" y="5278320"/>
            <a:ext cx="6069240" cy="1225800"/>
          </a:xfrm>
          <a:prstGeom prst="pie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0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ic Disciplinary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e 21"/>
          <p:cNvGrpSpPr/>
          <p:nvPr/>
        </p:nvGrpSpPr>
        <p:grpSpPr>
          <a:xfrm>
            <a:off x="-181080" y="1197000"/>
            <a:ext cx="3586320" cy="4927320"/>
            <a:chOff x="-181080" y="1197000"/>
            <a:chExt cx="3586320" cy="4927320"/>
          </a:xfrm>
        </p:grpSpPr>
        <p:sp>
          <p:nvSpPr>
            <p:cNvPr id="60" name="Rectangle 3"/>
            <p:cNvSpPr/>
            <p:nvPr/>
          </p:nvSpPr>
          <p:spPr>
            <a:xfrm>
              <a:off x="619560" y="3999600"/>
              <a:ext cx="155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Natio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Themati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Program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-181080" y="5207400"/>
              <a:ext cx="163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National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Blue Sk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Program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1244880" y="2936160"/>
              <a:ext cx="168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Internatio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Actio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1892880" y="1840680"/>
              <a:ext cx="151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International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glue money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>
              <a:off x="986760" y="119700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Typical incentive tools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8080"/>
            <a:ext cx="69231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968"/>
                </a:solidFill>
                <a:latin typeface="Calibri"/>
              </a:rPr>
              <a:t>WP 3: Funding Work Plan to impr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4000" y="793800"/>
            <a:ext cx="9036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4000" y="1849320"/>
            <a:ext cx="9036000" cy="3159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692316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968"/>
                </a:solidFill>
                <a:latin typeface="Calibri"/>
              </a:rPr>
              <a:t>WP 3: Funding Work Plan to improv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708120"/>
            <a:ext cx="8169480" cy="6132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97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About GEC glue mone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93880" y="5876640"/>
            <a:ext cx="55544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010 glue mon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compiled by K. Noone et 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581800" y="2259000"/>
            <a:ext cx="219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.e. 46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pport IGBP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The FE strategy should address the whole funding pyram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rapèze 4"/>
          <p:cNvSpPr/>
          <p:nvPr/>
        </p:nvSpPr>
        <p:spPr>
          <a:xfrm>
            <a:off x="1401840" y="4059360"/>
            <a:ext cx="4535280" cy="12240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* M€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mergent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rapèze 5"/>
          <p:cNvSpPr/>
          <p:nvPr/>
        </p:nvSpPr>
        <p:spPr>
          <a:xfrm>
            <a:off x="2173320" y="2836800"/>
            <a:ext cx="3008160" cy="1224000"/>
          </a:xfrm>
          <a:custGeom>
            <a:avLst/>
            <a:gdLst/>
            <a:ahLst/>
            <a:rect l="l" t="t" r="r" b="b"/>
            <a:pathLst>
              <a:path w="3008287" h="1224136">
                <a:moveTo>
                  <a:pt x="0" y="1224136"/>
                </a:moveTo>
                <a:lnTo>
                  <a:pt x="763237" y="0"/>
                </a:lnTo>
                <a:lnTo>
                  <a:pt x="2245050" y="0"/>
                </a:lnTo>
                <a:lnTo>
                  <a:pt x="3008287" y="1224136"/>
                </a:lnTo>
                <a:lnTo>
                  <a:pt x="0" y="1224136"/>
                </a:lnTo>
                <a:close/>
              </a:path>
            </a:pathLst>
          </a:cu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rapèze 6"/>
          <p:cNvSpPr/>
          <p:nvPr/>
        </p:nvSpPr>
        <p:spPr>
          <a:xfrm>
            <a:off x="2930400" y="1623960"/>
            <a:ext cx="1486080" cy="1224000"/>
          </a:xfrm>
          <a:custGeom>
            <a:avLst/>
            <a:gdLst/>
            <a:ahLst/>
            <a:rect l="l" t="t" r="r" b="b"/>
            <a:pathLst>
              <a:path w="1485899" h="1224136">
                <a:moveTo>
                  <a:pt x="0" y="1224136"/>
                </a:moveTo>
                <a:lnTo>
                  <a:pt x="742950" y="0"/>
                </a:lnTo>
                <a:lnTo>
                  <a:pt x="742950" y="0"/>
                </a:lnTo>
                <a:lnTo>
                  <a:pt x="1485899" y="1224136"/>
                </a:lnTo>
                <a:lnTo>
                  <a:pt x="0" y="1224136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65120" y="3282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422360" y="2268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113360" y="183024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Build a cohe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global web of reg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&amp; international off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799160" y="292572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ustain research tea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across countries &amp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discip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5383080" y="4073400"/>
            <a:ext cx="35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Develop proactive progra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on emergent fields, inclu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ter- and trans-disciplin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&amp; solution-oriented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687920" y="6464160"/>
            <a:ext cx="20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* Typical Money Un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rapèze 18"/>
          <p:cNvSpPr/>
          <p:nvPr/>
        </p:nvSpPr>
        <p:spPr>
          <a:xfrm>
            <a:off x="636480" y="5278320"/>
            <a:ext cx="6069240" cy="1225800"/>
          </a:xfrm>
          <a:prstGeom prst="pie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0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ic Disciplinary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e 21"/>
          <p:cNvGrpSpPr/>
          <p:nvPr/>
        </p:nvGrpSpPr>
        <p:grpSpPr>
          <a:xfrm>
            <a:off x="-181080" y="1197000"/>
            <a:ext cx="3586320" cy="4927320"/>
            <a:chOff x="-181080" y="1197000"/>
            <a:chExt cx="3586320" cy="4927320"/>
          </a:xfrm>
        </p:grpSpPr>
        <p:sp>
          <p:nvSpPr>
            <p:cNvPr id="81" name="Rectangle 3"/>
            <p:cNvSpPr/>
            <p:nvPr/>
          </p:nvSpPr>
          <p:spPr>
            <a:xfrm>
              <a:off x="619560" y="3999600"/>
              <a:ext cx="155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Natio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Themati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Program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-181080" y="5207400"/>
              <a:ext cx="163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National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Blue Sk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Program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1244880" y="2936160"/>
              <a:ext cx="168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Internatio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Actio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12"/>
            <p:cNvSpPr/>
            <p:nvPr/>
          </p:nvSpPr>
          <p:spPr>
            <a:xfrm>
              <a:off x="1892880" y="1840680"/>
              <a:ext cx="151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International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glue money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13"/>
            <p:cNvSpPr/>
            <p:nvPr/>
          </p:nvSpPr>
          <p:spPr>
            <a:xfrm>
              <a:off x="986760" y="119700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Typical incentive tools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Rectangle 16"/>
          <p:cNvSpPr/>
          <p:nvPr/>
        </p:nvSpPr>
        <p:spPr>
          <a:xfrm>
            <a:off x="4119120" y="11872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ome key issues for Future Ear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6076800" y="5373720"/>
            <a:ext cx="31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Create high visibility flagship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age existing scientists &amp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build-up a new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5968"/>
                </a:solidFill>
                <a:latin typeface="Calibri"/>
              </a:rPr>
              <a:t>Key Funding Challenges for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7640" y="1196640"/>
            <a:ext cx="6840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Unprecedented sca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Attract and involve various disciplines and new actors in highly complex issues at science-society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Fragment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 one agency is controlling in their own country the multiplicity of opportunities for environmental research, neither for development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rans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xperienced GEC projects and programs have developed effective funding networks but not in a coordinated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7068960" y="1278000"/>
            <a:ext cx="20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.e. 43 heads at Global Research Council…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854760" y="18558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.e. 13 partners for USGCR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23 for EU JPI Clim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27 for French Env. Alliance …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7105680" y="2727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.e. 46 countries support IGBP secretariat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7696080" y="93996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The diversity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131760" y="3429000"/>
            <a:ext cx="895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t calls fo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ear marketabl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Future Earth, promoting global sustainability research and providing information for adaptation and mitig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entive too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basic research to international coordination, to network and attract a growing community of researchers and us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unders coordination or co-align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ough innovative partnership, at  national, regional and international lev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oo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GEC budget towards extended funding with new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roup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y fund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facilitate and network the wide range of funding sources/institutions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2965320" y="6227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&gt;&gt;&gt; The IGFA/Belmont Forum has been asked by the Alli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to coordinate and diffuse a Funding Strategy for Future Ear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IGFA/Belmont Forum : a key funder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374840"/>
            <a:ext cx="85071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ld’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jor and emerging funder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global environmental change research, and international science counc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itiated i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by NSF (US) and NERC (U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ng as Council of Principals for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GF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a larger group of funding agencies group since 199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324000" y="3284640"/>
            <a:ext cx="441144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ustralia/CSI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ustria/BM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razil/FAPE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anada/NSER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hina/NSF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uropean Commission/DG R&amp;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rance/CNRS&amp;AN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ermany/DFG&amp;BMB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India/M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tent Placeholder 3"/>
          <p:cNvSpPr/>
          <p:nvPr/>
        </p:nvSpPr>
        <p:spPr>
          <a:xfrm>
            <a:off x="4795920" y="3321000"/>
            <a:ext cx="4348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Japan/MEXT&amp;J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rway/RC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outh Africa/N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nited Kingdom/NER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nited States/NS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15968"/>
                </a:solidFill>
                <a:latin typeface="Calibri"/>
                <a:ea typeface="Times New Roman"/>
              </a:rPr>
              <a:t>International Council for Science (ICS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15968"/>
                </a:solidFill>
                <a:latin typeface="Calibri"/>
                <a:ea typeface="Times New Roman"/>
              </a:rPr>
              <a:t>International Social Sciences Council (ISS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828960" y="5979960"/>
            <a:ext cx="52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&gt;&gt;&gt; IGFA/Belmont Forum members repres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only 5 to 20% of funders in their own countr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…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but action ori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posed FE Funding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052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feedbacks from GEC projects and Regional Consultation Meetings, it is proposed to conven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tional Funders Meeting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gional Funders Meet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imation by IGFA and Belmont Forum Memb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ir own country or region, by  targeting relevant ministries, others research agencies and organizations, foundations, development funders, key regional actor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-organization with GE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retariats, Project IPOs and National Committees are required to be efficient, in particular to map current funding landscape and instit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ployment in first part of 2013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allow significant impulse in FY 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ou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0 National Funders Meetings could be envision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complemented by Regional Funders Meetings with involvement of APN, IAI, ST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24000" y="583884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&gt;&gt;&gt; Co-design Funding Strategy and Guidelines in coming we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&gt;&gt;&gt;&gt; Co-organize National and Regional Funding Meetings in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856908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15968"/>
                </a:solidFill>
                <a:latin typeface="Calibri"/>
              </a:rPr>
              <a:t>On example among others to support Future Earth activities: the I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5697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215968"/>
                </a:solidFill>
                <a:latin typeface="Calibri"/>
              </a:rPr>
              <a:t>The International Opportunity Fund (IOF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12500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‘fast track’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llaborative Research Actions (CRA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members’ existing investments were ‘ripe’ for international collabo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incipl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C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Address the Belmont Challenge prioriti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i.e. societally relevant GEC challeng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Support 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Future Eart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y promoting examples of innovative types of resear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Lever IGFA/Belmont Forum member’s existing investment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rough international added value (3 countries minimu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Bring together new partnership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f natural scientists, social scientists, and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OF, a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15968"/>
                </a:solidFill>
                <a:latin typeface="Calibri"/>
              </a:rPr>
              <a:t>A la cart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a given C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A can apply to </a:t>
            </a: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various kind of incentiv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networking, clustering, integration, capacity building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Open to any funde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BF, IGFA or no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All commo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scoping, call &amp; selection) </a:t>
            </a: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but the mon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sibilities of </a:t>
            </a: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joint call with other international initiativ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G8, EC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4:45:46Z</dcterms:created>
  <dc:creator>Beadman, Helen A.</dc:creator>
  <dc:description/>
  <dc:language>en-US</dc:language>
  <cp:lastModifiedBy>MONFRAY Patrick</cp:lastModifiedBy>
  <dcterms:modified xsi:type="dcterms:W3CDTF">2012-11-28T09:59:41Z</dcterms:modified>
  <cp:revision>217</cp:revision>
  <dc:subject/>
  <dc:title>Belmont Forum  International Opportunities F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32123</vt:lpwstr>
  </property>
  <property fmtid="{D5CDD505-2E9C-101B-9397-08002B2CF9AE}" pid="3" name="Objective-Author's organisation [system]">
    <vt:lpwstr>
    </vt:lpwstr>
  </property>
  <property fmtid="{D5CDD505-2E9C-101B-9397-08002B2CF9AE}" pid="4" name="Objective-Caveats">
    <vt:lpwstr>
    </vt:lpwstr>
  </property>
  <property fmtid="{D5CDD505-2E9C-101B-9397-08002B2CF9AE}" pid="5" name="Objective-Classification">
    <vt:lpwstr>[Inherited - none]</vt:lpwstr>
  </property>
  <property fmtid="{D5CDD505-2E9C-101B-9397-08002B2CF9AE}" pid="6" name="Objective-Comment">
    <vt:lpwstr>
    </vt:lpwstr>
  </property>
  <property fmtid="{D5CDD505-2E9C-101B-9397-08002B2CF9AE}" pid="7" name="Objective-Created by (external) [system]">
    <vt:lpwstr>
    </vt:lpwstr>
  </property>
  <property fmtid="{D5CDD505-2E9C-101B-9397-08002B2CF9AE}" pid="8" name="Objective-CreationStamp">
    <vt:filetime>2012-03-22T17:48:28Z</vt:filetime>
  </property>
  <property fmtid="{D5CDD505-2E9C-101B-9397-08002B2CF9AE}" pid="9" name="Objective-Date of Issue [system]">
    <vt:lpwstr>
    </vt:lpwstr>
  </property>
  <property fmtid="{D5CDD505-2E9C-101B-9397-08002B2CF9AE}" pid="10" name="Objective-DatePublished">
    <vt:lpwstr>
    </vt:lpwstr>
  </property>
  <property fmtid="{D5CDD505-2E9C-101B-9397-08002B2CF9AE}" pid="11" name="Objective-FileNumber">
    <vt:lpwstr>qC57951</vt:lpwstr>
  </property>
  <property fmtid="{D5CDD505-2E9C-101B-9397-08002B2CF9AE}" pid="12" name="Objective-Generated by [system]">
    <vt:lpwstr>
    </vt:lpwstr>
  </property>
  <property fmtid="{D5CDD505-2E9C-101B-9397-08002B2CF9AE}" pid="13" name="Objective-Id">
    <vt:lpwstr>C1044158</vt:lpwstr>
  </property>
  <property fmtid="{D5CDD505-2E9C-101B-9397-08002B2CF9AE}" pid="14" name="Objective-IsApproved">
    <vt:bool>0</vt:bool>
  </property>
  <property fmtid="{D5CDD505-2E9C-101B-9397-08002B2CF9AE}" pid="15" name="Objective-IsPublished">
    <vt:bool>0</vt:bool>
  </property>
  <property fmtid="{D5CDD505-2E9C-101B-9397-08002B2CF9AE}" pid="16" name="Objective-ModificationStamp">
    <vt:filetime>2012-03-23T17:53:58Z</vt:filetime>
  </property>
  <property fmtid="{D5CDD505-2E9C-101B-9397-08002B2CF9AE}" pid="17" name="Objective-Owner">
    <vt:lpwstr>Beadman, Helen</vt:lpwstr>
  </property>
  <property fmtid="{D5CDD505-2E9C-101B-9397-08002B2CF9AE}" pid="18" name="Objective-Parent">
    <vt:lpwstr>Belmont Forum: Collaborative Science Actions</vt:lpwstr>
  </property>
  <property fmtid="{D5CDD505-2E9C-101B-9397-08002B2CF9AE}" pid="19" name="Objective-Path">
    <vt:lpwstr>Objective Global Folder:JRC Fileplan:NERC: NEW FILEPLAN:COMMUNICATION, ENGAGEMENT AND KNOWLEDGE EXCHANGE:STAKEHOLDER LIAISON:Belmont Forum: Collaborative Science Actions:</vt:lpwstr>
  </property>
  <property fmtid="{D5CDD505-2E9C-101B-9397-08002B2CF9AE}" pid="20" name="Objective-Research Council Publisher [system]">
    <vt:lpwstr>
    </vt:lpwstr>
  </property>
  <property fmtid="{D5CDD505-2E9C-101B-9397-08002B2CF9AE}" pid="21" name="Objective-State">
    <vt:lpwstr>Being Edited</vt:lpwstr>
  </property>
  <property fmtid="{D5CDD505-2E9C-101B-9397-08002B2CF9AE}" pid="22" name="Objective-Tag [system]">
    <vt:lpwstr>
    </vt:lpwstr>
  </property>
  <property fmtid="{D5CDD505-2E9C-101B-9397-08002B2CF9AE}" pid="23" name="Objective-Title">
    <vt:lpwstr>PuP - Belmont Forum Welcome and MoU_v3</vt:lpwstr>
  </property>
  <property fmtid="{D5CDD505-2E9C-101B-9397-08002B2CF9AE}" pid="24" name="Objective-Version">
    <vt:lpwstr>2.1</vt:lpwstr>
  </property>
  <property fmtid="{D5CDD505-2E9C-101B-9397-08002B2CF9AE}" pid="25" name="Objective-VersionComment">
    <vt:lpwstr>
    </vt:lpwstr>
  </property>
  <property fmtid="{D5CDD505-2E9C-101B-9397-08002B2CF9AE}" pid="26" name="Objective-VersionNumber">
    <vt:r8>4</vt:r8>
  </property>
</Properties>
</file>