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97D-9E68-4DCB-9940-D284D55E12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C920-A82B-42E0-939B-A7E628E75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828D-FA7C-40E0-8F93-F30C75B124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281D-041C-4F2F-8B5A-8C50568A42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331-D0DC-44EC-B10D-BE1BB08F04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4A4-296B-45EE-B484-950987C8D1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6"/>
          <p:cNvSpPr/>
          <p:nvPr/>
        </p:nvSpPr>
        <p:spPr>
          <a:xfrm>
            <a:off x="190440" y="825480"/>
            <a:ext cx="8763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0" y="142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7c0"/>
                </a:solidFill>
                <a:latin typeface="Myriad Pro"/>
              </a:rPr>
              <a:t>Future Earth workshop – Kuala Lump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79280" y="5157720"/>
            <a:ext cx="68580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857160"/>
            <a:ext cx="9144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c0"/>
                </a:solidFill>
                <a:latin typeface="Myriad Pro"/>
              </a:rPr>
              <a:t>Breakout session 2: </a:t>
            </a:r>
            <a:r>
              <a:rPr b="1" lang="fr-FR" sz="3200" spc="-1" strike="noStrike">
                <a:solidFill>
                  <a:srgbClr val="0057c0"/>
                </a:solidFill>
                <a:latin typeface="Myriad Pro"/>
              </a:rPr>
              <a:t>Research priorities and opportunities to strengthen capabilities within Future Earth in Asia and the Pa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7c0"/>
                </a:solidFill>
                <a:latin typeface="Myriad Pro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357120" y="107172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1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What are the regional research questions for each of the 3 research themes that need to be answered to achieve your vision for Future Earth in the Asia-Pacific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Asian situation different to other reg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interactions between coastal and terrestrial conserv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as in Asia are most important  for nature conserv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inancial mechanisms for conservation are effective in A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is Asian science having on the dynamic pla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down stream effects, or system pressures of development 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reduce disaster effects at a local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lift people out of poverty through biodiversity co-benefi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implications of green transformation, green economy 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357120" y="107172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1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What are the regional research questions for each of the 3 research themes that need to be answered to achieve your vision for Future Earth in the Asia-Pacific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rade-offs and implications of different development approaches in temperate zones, with high ecosystem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ossible futures of urban settlements including mega c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emergent disease understood, traced and responded to throughout Asia-Pacif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merging health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s towards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lternative urban development approaches are there? What urban forms are sustainable for As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governance systems are appropriate for a sustainable As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various layers of governance interact for sustain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2. What are the set of capabilities needed to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Arial"/>
              </a:rPr>
              <a:t>Young scientists to learn from a range of experts from around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Sustainability labs – integrated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Training in integra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Business leaders to engage with impacts on ecosystems and implications for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Systems modeling, context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Arial"/>
              </a:rPr>
              <a:t>Tools for rapid assessment of biodiversity and ecosystem health, ecosyste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Earth observation systems, an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apacity to store and access larg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Local infrastructure for collecting local data, e.g. disaster warning dissemination and appropriat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omparative analysis across sites in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Having strong relationships between disciplines and impact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ase studies of integrated research, criteria for judging what is effectiv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3. What could be early research activities that would demonstrate the new research that Future Earth seek to foster in the re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ndigenous knowledge has been brought to bare on sustainability across the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analysis of regional networks and sustainability models already  in the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 of existing data, what do we know what are the major knowledge ga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GEOSS AP, to collaborate with social scientists for solution oriented obser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optimal decision making mechanisms fo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he trainers for science-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access to literature and published research, sharing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ing links across science and business to access commercial or industry held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ions for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lign research questions by combining framework elements and research the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we do when we walk out the door of the hotel? Who will we tell about future ea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new space where science, social science, engineers and others will meet to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14:44Z</dcterms:created>
  <dc:creator>Daniel Nyanganyura</dc:creator>
  <dc:description/>
  <dc:language>en-US</dc:language>
  <cp:lastModifiedBy>user</cp:lastModifiedBy>
  <dcterms:modified xsi:type="dcterms:W3CDTF">2012-11-22T08:59:19Z</dcterms:modified>
  <cp:revision>19</cp:revision>
  <dc:subject/>
  <dc:title>Criteria for Future Earth Research</dc:title>
</cp:coreProperties>
</file>