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3A4D-BD62-4E7C-835F-B8BB47AA33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655-0581-4C8C-905B-7E1937400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B5F8-1179-4D8A-84E5-CBF21151F7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ADE-D313-4A23-A913-C9A5BA5A0C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5180-9CF8-4947-91F8-7353B412A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4492-1D9B-4350-9142-BF53887677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6"/>
          <p:cNvSpPr/>
          <p:nvPr/>
        </p:nvSpPr>
        <p:spPr>
          <a:xfrm>
            <a:off x="190440" y="825480"/>
            <a:ext cx="8763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0" y="142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7c0"/>
                </a:solidFill>
                <a:latin typeface="Myriad Pro"/>
              </a:rPr>
              <a:t>Future Earth workshop – Kuala Lump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79280" y="5157720"/>
            <a:ext cx="68580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85716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c0"/>
                </a:solidFill>
                <a:latin typeface="Myriad Pro"/>
              </a:rPr>
              <a:t>Breakout session 1: </a:t>
            </a:r>
            <a:r>
              <a:rPr b="1" lang="fr-FR" sz="3200" spc="-1" strike="noStrike">
                <a:solidFill>
                  <a:srgbClr val="0057c0"/>
                </a:solidFill>
                <a:latin typeface="Myriad Pro"/>
              </a:rPr>
              <a:t>Developing a regional vision for Futur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7c0"/>
                </a:solidFill>
                <a:latin typeface="Myriad Pro"/>
              </a:rPr>
              <a:t>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214200" y="857160"/>
            <a:ext cx="853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 algn="ctr">
              <a:lnSpc>
                <a:spcPct val="100000"/>
              </a:lnSpc>
              <a:buClr>
                <a:srgbClr val="0057c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is your vision for global change and sustainability research for the region and how do you see Future Earth contributing to it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soci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 and science car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ing shared visions with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learning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ec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stal zones, vuln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ustainability, how do we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to allow evolving goals an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2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would success look like for Future Earth in the region? What impacts could Future Earth make in the regio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roves and peat lands p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coastal zones, rehabilitated, reple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s reduced, to disaster and in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ly engineere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, energy security, mobilit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understood and programmes in place, based 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research and policy institutions and ways of mak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ed investment pathw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mega cities and reduced urban-rural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3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would be key requirements / steps to get the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technology, engineering and innovation, moving beyond integration of natural and social sci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 level of schola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ance of complex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ing young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capacity for integration and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iosity driven and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lli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cross acade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920" y="620640"/>
            <a:ext cx="403884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nvestment in research capacity in less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rect development research through Futur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transnationa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sharing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tworks of member academies (but in some countries they are not fu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between young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C node institution in each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 participation in monitoring and data co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esign, but not to al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4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would the success indicators b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e research al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agencies will have changed their structures and investment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for biosphere and geo-sphere interaction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ed awareness of glocal environment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itizen contribution to databases,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design and co-production is the normal way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water supply increased, and more secure and hazards managed on coastal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change to research behaviors, interdisciplinary research is highly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s not solely talking abou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conomic practices and systems will have eme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minds engaged and contributing to the next 20 year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ulti-disciplinary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14:44Z</dcterms:created>
  <dc:creator>Daniel Nyanganyura</dc:creator>
  <dc:description/>
  <dc:language>en-US</dc:language>
  <cp:lastModifiedBy>user</cp:lastModifiedBy>
  <dcterms:modified xsi:type="dcterms:W3CDTF">2012-11-22T04:02:39Z</dcterms:modified>
  <cp:revision>15</cp:revision>
  <dc:subject/>
  <dc:title>Criteria for Future Earth Research</dc:title>
</cp:coreProperties>
</file>