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4E7-48B0-4D26-9625-616C1557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6B2-B80C-4EF0-AAA2-87E1ABCD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0A5-84BA-4F3E-8DE4-3AFA27CB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EDC-E1E1-4B38-81CE-BF8B64EC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3BD8-23C2-49F5-9B5C-FA4CCC80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C03D-8310-45AF-934F-215E8CD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698E-564B-45D8-9CEE-1360BC8D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0726-98A2-42D5-A93A-641E064F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8C1B-95F4-425C-A611-FEE507FD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13C8-1EC6-4F7B-8877-7DDB86A2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7582-2267-4584-A616-AE696812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54E-4829-4F92-B5E9-F60BFEE6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FB6E-FD14-44CD-B350-28A3094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7354-728E-4D2A-9A62-87DD4F8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8009-6884-4B0A-9351-14B0AD10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6D72-2860-4EC7-9A50-85DB6468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492F-E01D-43DA-B6BC-C1FE1A7E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0ADC1-F70E-4DDA-8F00-59216B57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EDCFC-4DBE-4412-BEEC-ACB23C81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C8506-D1CC-44A2-9117-BD51B914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CB078-BBDA-4A62-BBAF-4564341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1CA9C-2ED1-43C2-9D05-B1546870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77A-D235-4953-9573-39994BDB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39062-84D3-4D8D-A75C-F789C269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546D9-822F-4E39-847D-2643CFF9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6EC49-A638-4A4E-BC38-8694875B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2D7CC-9635-4729-97F9-22C4BC00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BC1A2-C512-484E-953B-91B2B8D3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8149F-E299-48E7-AA04-7C055805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60AB2-4ADF-47D8-80EA-E5C29141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4F9CA-4D3E-435E-90CB-C3F36558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1AB513-3ED7-4E10-B3D8-17F7700A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1BD33-2D2D-4476-ADED-3CCA8450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D4C-5C91-4B2D-B01E-518F77B9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B46E7-B2CB-44D2-86FE-44CD5D91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EFAAC-F7F7-4635-9FBE-6EF86ECD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64469-843D-4B2B-8DE3-9A03AA14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9FE4B-F6C7-4F60-A967-CC88A73C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E5089-EF9A-443D-B540-DFB9934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EC979-2A61-4C39-884A-F1A3DD4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CBB3D-AB80-47A2-B9AE-7A5E047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D7E81-DEEC-40BD-A306-0AA54316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766C2-8FD6-4DA0-B436-962AB83A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1D53B-1F84-4301-900E-1DD62207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5CA-0975-4621-B3F0-CFAE3165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B960A-BF8C-42D0-859E-B33D5868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D39CC-FE74-44FA-80E5-B71E7A28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93D48-69FE-4108-A9E0-946423DE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F3262-5939-4B55-87A0-99EB635C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237BF-FA96-468C-9E34-24DF1DE9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89AFB-DE43-4CCB-A31A-0074B2E3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C0543-59FC-47AA-877E-37369E8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8833B-3EF9-45B4-8A4B-7A1B86F8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A6FC4-DC46-4B02-897A-E8F66A6B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C0494-349D-4DAA-9E48-554214B1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A07-6DAD-4F81-8D51-513EBB6C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A4B23-B79C-44C7-845A-001041C1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A60A4-E4D1-4BA2-85F1-AA2CA884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31536-D063-4252-A76C-CD5A4E25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044C7-B3C0-4ADC-A243-7D7D615C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896E-4995-4C67-A376-D7BCAE97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EB456-58CA-4587-B196-DB433E63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12FF-D4D3-4E8A-B700-C907BAF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17537-6453-428C-953D-11BEFB77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C3DC2-099B-4B37-B571-6C90E215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8937C-D6CE-4BC8-A89F-6241E72D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604-2742-4575-B72F-613D2E0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F2AB2-7F59-4EE5-8F4C-D98AD779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508F0-1197-4959-A3E0-D4785B4D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EF3D-6CF3-471E-9E48-78C2DA41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DE523-37E0-44A6-8E9E-86DCA828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8A8B0-CA70-43CB-AEF3-4B1FA460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2B940-5F68-4C1F-AF36-11ED5BF1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83C2E-009F-475B-81C5-00DFBAC2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BB46C-9298-49BA-89BE-AC04E84A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69642-5310-4D0B-A315-FBB71842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8F1E8-9121-4DB9-911F-CCBFD41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5B7-0CCA-4EF8-A68C-870FA945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1053A8-1915-49AB-84A2-61BCD97C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9BC09-A176-4F0E-BEEC-3E8ACA46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096D0-4313-4034-B61F-34C56E38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A2762-1B7D-4BF7-BDAD-9C6C7094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88BC4-02CF-4F0A-A0CE-F2C285A1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E944A-86FC-4236-B6F0-99F7F519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BE6B3-CC39-4FB9-A553-AEF02FD4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E4B3F-1E30-4EF9-9FF0-38994EAA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9A4A9-8C1E-42AA-A4F9-6ABE2246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BECDD-9859-4398-B2D6-DE7B364E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3DA-DFAC-4E01-AE68-4401A80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77778-39FC-41FD-A1D3-F11CEE05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47B73-135E-4587-8FEB-031A0D18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05FE0-60BB-4069-9D61-CCD698FD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E81FD-68C0-4A76-8A10-4FC718FA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554F6-95D3-4B92-A8F4-E440961F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D24BB-9860-4039-8B9B-6ECB4C34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8AB16-4C92-4907-B5F5-532C30FB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5E14-0DAB-400C-B921-082163DAD789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66EC-2B25-444D-A2B7-D51F1B531A2E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F6EE-DCB8-445B-A4FA-24E2B20069D8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1489-46B6-4678-814D-E1DB8EF4A424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5002-7794-4282-BC35-7B0DE555C28D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FCAF-ACC2-4A0D-A318-93B35A33E615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F590-352D-4F5F-A12B-B78C716C4994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0034-D8FF-4874-9053-4309917DD352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Break-out session 4: Group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Chair: 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Rungano Karimanzir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Rapporteur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Akeem A Akinwal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Transition Team member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Hackmann, Heide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Participants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12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biodun, Babatunde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javon, Ayite-Lo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arahbakhshazad, Ned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rdon, Christop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thumbi ,Agnes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uw ,Joha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choles, Mary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willing, Mar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Yanda, Piu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8040" indent="-338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What does that mean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Members’ reflections on various interpretations of nodes show the following concepts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Institution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With interactions across nations and regions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Super Structures 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Various institutions  including the civil society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Networks: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Various groups and virtual communities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Platform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Various commissions and committe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Arrangement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Focusing on activities, newsletters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Regional Organisation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Including AU, SADC, CODESRIA, etc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Representations: 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By various stakeholder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Programme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With membership from national or international level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Project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Existing or new projects across region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However, in the description of various interpretations of nodes, some issues were noted for urgent attention and these includ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Language barri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Costs of managing elaborate administrative structure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Sustainability of new institu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Bureaucratic bottleneck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Fragmentation of frameworks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Willingness to participat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Endorsement at higher levels of governance (the Question of Political Wil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Synergy between global goals and African goal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2. How do we make that happen? How do we fund it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Consensus on to make it happen is as follows: </a:t>
            </a: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Reliance on the  UNESCO infrastructure at national level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ngagement with core groups interacting with the alliance, using the existing structure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Identification with national groups or commission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Recognition of practition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Funding is expected from the following channel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African agencies and organis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Ministries of science and technology in Afric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Future Earth champio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International funding agenci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The alliance and its partner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Organised private sector including companies and organisatio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4304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3. Who’s ”we”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It is unanimously agreed that “the We” comprises everybody including the present and future generation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Africans are expected to be the primary beneficiaries, while other beneficiaries include research community, African governments and international agencies and the global community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57120" y="164304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4. Where do we start? What are the next steps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The starting points can proceed from adoption of the agenda as a guidelin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The movement should proceed with immediate effect, starting with core groups interacting with the alliance, using the existing structures.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The next steps include established regular meetings with stakeholders including ministers and transitional team of the alliance.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Interface of Future Earth and Science is another step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5. </a:t>
            </a: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What would the vision for a Future Earth African node be? What would it have to achieve in the next 10 years in order to be considered a success story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Deliberations on the vision and expectations for a Future Earth African node in the next 10 year produced the following results: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Integration of networks through database to create a space for mutual interactions  for sharing of knowledg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Recognition of existing structur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Building of new knowledge bas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Expansion of space for research  and development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Sustainable capacity building on new ways of think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Effective and efficient management of fund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Production of a new generation of integrated global environmental change scientist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The outcome of the Future Earth agenda to fit with African strategy for development al agenda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06:48Z</dcterms:created>
  <dc:creator>Tanja Hichert</dc:creator>
  <dc:description/>
  <dc:language>en-US</dc:language>
  <cp:lastModifiedBy>Dr Akinwale</cp:lastModifiedBy>
  <dcterms:modified xsi:type="dcterms:W3CDTF">2012-11-02T10:43:38Z</dcterms:modified>
  <cp:revision>35</cp:revision>
  <dc:subject/>
  <dc:title>PowerPoint Presentation</dc:title>
</cp:coreProperties>
</file>