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632-54F4-4BF5-B2D2-5D20859D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4EB-2167-4F08-B030-AFEC07EF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71F0-5991-44D4-80A0-57B340F3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FA6-9801-4820-8B43-A95D6C24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5FAD-30C7-414E-933C-5E98CAE5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E749-AD2B-4750-8190-3BAEACFD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1741-5A62-4E95-A123-4A84F221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EFA6-4426-4E1D-910E-547C8CA2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A47C-FB6B-41EA-8651-003608AE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B73-5288-46B4-B11B-091E4E2F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9DE0-8A60-42A8-9B9E-B60BF28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3015-CFD1-4897-BE1C-705A641F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D212-2718-41BD-BC4E-E1F21678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80C5-6C1C-49C7-BC3B-0E38EDE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CE01-461D-42FA-82B8-2A8F494D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7EA9-76AA-4BDC-826D-9612F3C2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026C-15FB-49E7-816A-0C6EA510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0F787-DAF1-4946-8337-0D8C54B8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49C53-6A06-4D01-9686-CF216065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5396D-2B7E-411A-86CA-58268B4F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0FDF0-7B6E-4EB8-ACDC-105E17DD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38E65B-C47A-4705-A2F3-FBB29389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5EE-CBCE-458C-800A-E0E876ED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0A4C0-9D4D-4B6A-999B-0B16B576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0920BA-FA64-47CC-BFA4-1B6D1CE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168A2-462B-458C-B7E1-B7CEA66B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5DAFE-C631-42AB-B250-86D722AE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B45FD-2609-4183-8313-A77F0B40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BD059-1912-4C2A-A61A-1C3B89B5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8D5C1-40F0-4966-9D6C-110FBA8C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104927-67E0-4191-9917-E52E60EF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E2E5A-6B82-4972-9055-D9889426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30EBA-3627-43F3-9812-F1DF26F6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BC1-AE97-428F-BF74-6D31D5AD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70E65-DE1D-46E4-8177-BAA30CDA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175CC-21AF-496C-BCA9-10A7A82B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757F6E-546A-47A3-B339-939FC5A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CC534-FEBC-4502-9DC5-613AB4B3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60ED8-1B6F-42AF-9823-EED55236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969B3-C0A6-450A-BE47-94E742F0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5788A6-17AE-4E5B-8085-B7040993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4F9F5-8772-476A-BC8C-D5328275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56C262-EB6A-4F27-8C3D-9BA9A998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AC686F-2389-4B5F-9E43-87181422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964-8C86-4CC0-928A-00EEBD59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C5812-AD58-4065-8EB4-9B5ECCE1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2ABB4-0AD3-4BCF-BDC4-20D3A349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99C13-1C7F-4D78-94ED-64B08C0A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324A0-4A25-4460-A427-E744BDDF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2EC88-4C50-47E8-81C2-7C324248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94F81-C711-42C3-851C-A772789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BDE83-7CCB-45BD-A228-997BA58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9815F-FCB9-48A4-A19E-FA3C8B6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AF7BA-F81A-41C9-9FAB-4408CDA5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D04F9-9138-49F1-A744-AAE6F62A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946-2D38-4A15-ACD0-9F074D3D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E73D2A-8FAE-47CB-A950-92E23093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8C47D-1B38-487E-9462-13302518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B83EF-1BF7-455F-92EF-65217E93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E7821-5ADA-48C2-A523-4AA0D897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4B92-7CB4-421D-B6A4-3C9DB671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5B329-1CAB-4FE4-B241-CD6C30C6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4A76-BA67-4A28-B666-F316AA66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39BBB-6AAF-4B2D-A50D-ED4CD85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8734-7887-4B6E-B4E1-B7A68E4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402EF-D8F8-4D61-AD11-677238A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3CA-72F1-472E-8E2A-33874D88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8CB01-D2D5-443B-B8D2-7D77E619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7F9AE-6306-4F8C-8A03-252B08D1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4416E-7C17-4E5D-B66B-AAA824E8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051E7A-4347-4C7A-BEC2-FF44D0BA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E3544-9A6A-493A-AF94-C30E5578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32D36-AE7A-40F5-BC65-CA7F4B3E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AB8A0-6815-45E0-BE04-D6EBFB63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7BCAB-5959-45FE-8EC0-43FFA030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D53EC3-D0A5-4DD8-9933-11B34327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8FB593-AE2F-4195-8EF5-4CAD027D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859-9AC2-4224-9A8A-1AE2DAED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4FE5B7-AD46-482A-9F4A-C500601D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908FE-CB42-4A38-B86D-9B7DB36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B2D1B0-AAB8-42D5-A810-66710F92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CC2AD-85E8-4922-86A4-E8C5C91F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8CD32-976D-442C-BD89-C398CD42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F42CC-F08D-44EA-ADCF-D9929FF2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90D39-4131-4574-B80C-F6E8D66B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5351D-74E4-462D-85F0-5254FBCE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1BE9E-F0B5-4AFF-980B-27F42A92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6FE07-7083-4C22-B11A-1DB87ECA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77E-FD52-47FA-A73B-6DF782B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97BF9-F579-4D36-ACF4-FAADD2DF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50DA-D989-4CA2-97FF-5A6FD7A4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E106E-9064-4882-9C1C-F8D0DAD2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CBC3B-4416-4DC0-A5CF-E82C923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EB2B5-75D3-4AB4-83C9-12EBF57E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55DE5-F284-40CA-86C7-C33481A6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69AEF-ECE1-4621-A9E3-AA1BE022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B9CE-68F2-4E81-A521-6838198C156F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6322-9ADB-415A-B2EE-C4BA33AF344A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4B3-FE7A-4142-96E0-9A24B1697969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9E77-4B60-4F3F-BCFA-B16F1C71B8AC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8F4C-385E-47D0-B8CB-A34F9C526C3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0734-B649-4291-A371-8AA6A9447322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35E6-4928-4B64-BCC7-A42D222C03B9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F667-5E63-41FE-906B-27CAF6789E8C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Break-out session 4: Group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Chair: 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Rungano Karimanzir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Rapporteur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Akeem A Akinwal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Transition Team member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Hackmann, Heide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Participants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12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biodun, Babatunde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javon, Ayite-Lo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arahbakhshazad, Ned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rdon, Christopher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thumbi ,Agnes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uw ,Joha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choles, Mary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willing, Mark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Yanda, Piu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8040" indent="-3380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What does that mean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Members’ reflections on various interpretations of nodes show the following concepts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Institution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With interactions across nations and regions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Super Structures 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Various institutions  including the civil society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Networks: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Various groups and virtual communities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Platform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Various commissions and committe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Arrangement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Focusing on activities, newsletters,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gional Organisation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Including AU, SADC, CODESRIA, etc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Representations: 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By various stakeholder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Programme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With membership from national or international level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Projects: 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w Cen MT"/>
              </a:rPr>
              <a:t>Existing or new projects across region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38040" indent="-3380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However, in the description of various interpretations of nodes, some issues were noted for urgent attention and these include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Language barri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Costs of managing elaborate administrative structure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Sustainability of new institu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Bureaucratic bottleneck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Fragmentation of frameworks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Willingness to participate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Endorsement at higher levels of governance (the Question of Political Wil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w Cen MT"/>
              </a:rPr>
              <a:t>Synergy between global goals and African goal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70080" indent="-3700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2. How do we make that happen? How do we fund it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Consensus on to make it happen is as follows: </a:t>
            </a: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Reliance on the  UNESCO infrastructure at national level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ngagement with core groups interacting with the alliance, using the existing structure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Identification with national groups or commission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Recognition of practition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4200" y="1642680"/>
            <a:ext cx="8715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Funding is expected from the following channel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African agencies and organis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Ministries of science and technology in Afric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Future Earth champio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International funding agenci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The alliance and its partner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Organised private sector including companies and organisatio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57120" y="164304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3. Who’s ”we”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It is unanimously agreed that “the We” comprises everybody including the present and future generations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Africans are expected to be the primary beneficiaries, while other beneficiaries include research community, African governments and international agencies and the global community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57120" y="1643040"/>
            <a:ext cx="8501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4. Where do we start? What are the next steps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The starting points can proceed from adoption of the agenda as a guidelin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The movement should proceed with immediate effect, starting with core groups interacting with the alliance, using the existing structures.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The next steps include established regular meetings with stakeholders including ministers and transitional team of the alliance.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w Cen MT"/>
              </a:rPr>
              <a:t>Interface of Future Earth and Science is another step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Future Earth should develop strong regional “nodes”: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26440" indent="-22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 Cen MT"/>
              </a:rPr>
              <a:t>5. </a:t>
            </a: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What would the vision for a Future Earth African node be? What would it have to achieve in the next 10 years in order to be considered a success story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Deliberations on the vision and expectations for a Future Earth African node in the next 10 year produced the following results: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Integration of networks through database to create a space for mutual interactions  for sharing of knowledg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Recognition of existing structur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Building of new knowledge bas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Expansion of space for research  and development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Sustainable capacity building on new ways of thinking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Effective and efficient management of fund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Production of a new generation of integrated global environmental change scientist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w Cen MT"/>
              </a:rPr>
              <a:t>The outcome of the Future Earth agenda to fit with African strategy for development al agenda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26440" indent="-226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06:48Z</dcterms:created>
  <dc:creator>Tanja Hichert</dc:creator>
  <dc:description/>
  <dc:language>en-US</dc:language>
  <cp:lastModifiedBy>Dr Akinwale</cp:lastModifiedBy>
  <dcterms:modified xsi:type="dcterms:W3CDTF">2012-11-02T10:43:38Z</dcterms:modified>
  <cp:revision>35</cp:revision>
  <dc:subject/>
  <dc:title>PowerPoint Presentation</dc:title>
</cp:coreProperties>
</file>