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D4A1-8E30-4B49-8019-41454DBEA7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C32D-D291-4CC4-B79C-C4DC56E879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B17F-9536-4945-96EF-0FC0818CCF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0B72-B108-4A9F-BC85-8DE8912690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D4D-8A4C-4E6D-821A-79C811CC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494-60A0-4F0D-9DDD-00D0EE72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5DE-1337-4E7E-A68D-B315342B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B1A-5A9B-4E6C-A8FF-68BBC0EC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0712-FD2A-4A54-84D7-8F9074CB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A35E-024C-41CB-846E-B5CD50B1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0CB4-490E-480E-9623-600400D8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D17A-3E01-4BB8-8B6B-C0F5B442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F7C0-E3DC-4C78-BCDD-0ECC1EF7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9F59-7006-449E-B5DB-6F9EAFD0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A011-4C35-4BFE-8FDB-07031CF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678-B338-476E-AD23-E8E61703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D421-73A0-403A-A925-DAC5B084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D1EF-C87C-43B4-903F-E025FD9F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4DB3-1D2E-4FC2-AFD1-A79E9541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1E22-1D48-4A26-9BA0-B60CCAFC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FF0C-7F59-4DD2-9E59-4D2B6181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40412-308F-4150-AB28-4117AA35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74386-8F5B-414C-B740-5BC36CB0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6423A-CE3F-4118-8214-12C721F0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372B4-C4A6-4590-986D-EF273D93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17C04-9FA3-4566-8ECF-C6F0EEDC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C0A-2DE9-4063-8A4B-A12B0C6F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22D51-8958-47D4-B1BF-BBBACB8F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59BCA-F83E-4CCD-8ADD-DF28F77B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A707C-3B8F-4E3D-8014-F64307EF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2A7F7-0D38-4CFA-B959-74D982E8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DDE2D-7FA1-45F7-ADA3-23447D20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FD55B-F626-4DDE-9954-C717F540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EEE09-7A9B-46BA-8F9E-E73511C2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1EE48-C2C6-493F-8B4F-D73995A9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11FFF-D13C-4E85-945E-DA5582D5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086DA0-51EA-4725-B12A-857B2D7E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9F3-0028-46E7-81C1-BE6A5DBF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EDB982-C471-4385-8567-FE585834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C89DB-7D46-4A0C-A7E0-51EA684B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DA2D3-9AE6-4B5E-8040-60DC52C6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DC97E-37E9-4AA8-AFDC-7386DC1D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6884D9-7411-4F5F-A6C7-2F584462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7F257-4DD2-4E99-B05A-79A42160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04357-04DB-4B3D-BA4D-96EED043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1B2E8-D7B8-4CD3-A205-4DC53888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83DE3-F945-434B-95FF-44BEF073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404B9-9592-42F8-BA69-E3A1234E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B17-1A37-46F8-AEDB-488FF071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51F83-0DAC-4610-AAD0-53B667C3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23E7A-3363-43AD-AE03-514C7B84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2E2D4-7801-4BF9-A051-D89A50A5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A60D0-1E28-49B8-A8AD-D26C607D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82221-04F8-407D-AC96-82CBEBF6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110F3-4525-4F2D-AF40-9791166E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97442-7D96-4377-8554-6C0439F8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27D7E-4848-4A41-BDB6-52EBD586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B7EC4-C67B-4CE5-AC8C-F57B6BB2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2FA80-ADA6-49C5-9CC4-6E1B0542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1BE-A745-4343-B35E-EFD0BF24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E3421-87EE-44A9-963B-1B416B53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270EC-50AC-471D-B680-C1C77DB3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93E49-D8A7-4E94-9CB9-6C685EE5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E51D7-E264-4286-857B-52670CCE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F0C9B-2C61-4AE5-BFBD-4A69A4F1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A6108-1544-4150-BE88-95315D85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C2A9C-830E-47E5-9442-4E9A9563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47E37-3055-471D-9E2E-DBAE80B8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43564-7147-4CD8-9B92-F4C1DB9A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52F8F-8350-48CF-AE15-C8CD3D3B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E20-0430-46AC-ABAC-C710314E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878DC-DB92-49C3-B48E-5F573921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A0ACB-D4A5-405B-9D94-2539C086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CFD0-457D-4B79-B01E-1ACA401A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3F40A-3A08-4D73-98DE-1F7E96B6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D00FE-D03C-4766-B387-4335D927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E8E49-FE67-4D5C-A2E5-5317D090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6D063E-139B-4AB8-B105-E29F1E1A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DDB2B6-05AE-4236-B2C2-80BBEEE8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F92AEB-8085-41F9-A1E6-0E1BB5A6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F4261-E743-4BDC-A30E-6BF73146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5B4-9BD7-4027-A073-FAB8E81B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A3221-40E7-4D41-B113-DDCC6523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1DCB5-268F-4B7A-B669-3C8DA324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0AFBF-6FF9-461A-8274-92BE37FB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DF8A0-5F96-4545-9AAE-DD502C29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7EF5B-8901-4EB1-9642-CF35FFA4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EC4FC-F779-4CFF-B73E-E5996D65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6CDED-BFEF-4D70-B9A6-5E31A759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1BBE7-4061-4565-9C56-A84549A7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76E3C-90D6-4991-A2CD-67A2B267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409B9-00E5-4513-8196-50E69D10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9E0-93CB-4B38-B3F3-F5DE85B1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10F0C-EE85-4309-8A38-0A94E0FF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25B3F-8300-4A81-8D71-EAABA4E5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89B95-603D-417D-B6EB-52FB4ED4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95984-01D5-4736-94D9-53AE1108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2D764-CB96-4FB7-8A4D-F538E3D6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724B1-A081-478A-B27A-C706103E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39227-2FE9-404E-92B9-9BD2D27C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7F6B-4DBB-4B8B-B28D-5C3C9749F4D6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4EB8-C7D6-4F4A-B282-C5E964169C3A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CB06-B516-4DB6-82B0-B605A9355292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4FDF-02E3-43BF-8396-680086B1D9E2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BF4C-C2CD-4E67-BC14-6415412FECCF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14A2-AB6A-4E9E-B2A4-FCEBD61EEB1B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2073-F846-445C-AFEE-A5AA3151808A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4CEA-23E7-41E8-A779-0F9DDF2CB96F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Break-out session 1: Group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6792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Chair: 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Olago, Daniel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Rapporteur: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 Olowoyo, Joshua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Transition Team member: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 Abrahamse, Tanya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Participants: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Clover, Jenny 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Colvin, Joh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Francis, Julius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Hewiston, Bruce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Jakob, Rhyner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Matose, Frank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Niassy, Saliou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Thombiano, Adjima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Yanda, Pius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775f55"/>
                </a:solidFill>
                <a:latin typeface="Tw Cen MT"/>
              </a:rPr>
              <a:t>Future Earth Research Theme: Global Development</a:t>
            </a:r>
            <a:endParaRPr b="0" lang="en-US" sz="3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roviding the knowledge for sustainable, secure and fair stewardship of food, water, health, energy, materials and other ecosystem servic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0000"/>
                </a:solidFill>
                <a:latin typeface="Tw Cen MT"/>
              </a:rPr>
              <a:t>See next sli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75f55"/>
                </a:solidFill>
                <a:latin typeface="Tw Cen MT"/>
              </a:rPr>
              <a:t>1. Research priorities relevant for Africa that can be linked to / integrated within the Future Earth research framework 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MAIN RESEARCH PRIORITIES (INCORPORATES BOTH DYNAMIC EARTH AND GLOBAL DEVELOPMENT PERSPECTIVES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Water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scarcity, efficiency, quality, quantity, availability, biodiversity, forests, equity, conflict and migration, institutions and management at regional level, pollution, transboundary, governance)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Land use and land management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access, productivity, degradation, use,  management, land tenure system, land lease, population)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Coastal zones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biodiversity, lack of resources, capacity building, fisheries, resource use, pollution, processes e.g. biogeochemical)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Critical zones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mountains, (rain)forests, marginal lands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Disease vulnerability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Megacities and impacts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 (urbanization, unplanned growth, resources demands, wastewater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Human well-being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social sustainability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Knowledge systems and practices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dealing with complex systems – Institutions, Networks, Markets, Hierarchies) to learn how to deal with transformational issue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Uncertainties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 lack of data, what to do in the face of uncertainty – some information is independent of uncertainty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75f55"/>
                </a:solidFill>
                <a:latin typeface="Tw Cen MT"/>
              </a:rPr>
              <a:t>Research priorities relevant for Africa that can be linked to / integrated within the Future Earth research framework (continued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CROSS-CUTTING RESEARCH PRIORITI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Uncertainty (data and models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Knowledge systems and practi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Pollution </a:t>
            </a:r>
            <a:r>
              <a:rPr b="0" lang="en-ZA" sz="2700" spc="-1" strike="noStrike">
                <a:solidFill>
                  <a:srgbClr val="000000"/>
                </a:solidFill>
                <a:latin typeface="Tw Cen MT"/>
              </a:rPr>
              <a:t>(e.g. trace metals, pop, monitoring system, mitigation, peri and urban agriculture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Institutional arrangements and scal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Livelihood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Food securit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Climate chan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Migration</a:t>
            </a:r>
            <a:r>
              <a:rPr b="0" lang="en-ZA" sz="2700" spc="-1" strike="noStrike">
                <a:solidFill>
                  <a:srgbClr val="000000"/>
                </a:solidFill>
                <a:latin typeface="Tw Cen MT"/>
              </a:rPr>
              <a:t> (cross boarder migration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775f55"/>
                </a:solidFill>
                <a:latin typeface="Tw Cen MT"/>
              </a:rPr>
              <a:t>2. On-going regional activities / programmes, already dealing with these priorities. Gaps not being addressed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ater: Rhodes UNESCO NODE, Collaborative Water Research Network, Water Research Commission, WITS Univers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Land: ICRAF, PLAS, AIAS, CODESS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ountains: Afromont, Sae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astal Zone: Marine RI (UC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egacities: African Centre for Ci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isease Vulnerabil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ncertain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nowledge system vulnerability: SANBI,MEDUNSA, UKZN, CSIR,SAE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ollution: Enda, Medun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stitutional Arrangement: Cordes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775f55"/>
                </a:solidFill>
                <a:latin typeface="Tw Cen MT"/>
              </a:rPr>
              <a:t>3 </a:t>
            </a:r>
            <a:r>
              <a:rPr b="1" lang="en-ZA" sz="2800" spc="-1" strike="noStrike">
                <a:solidFill>
                  <a:srgbClr val="775f55"/>
                </a:solidFill>
                <a:latin typeface="Tw Cen MT"/>
              </a:rPr>
              <a:t>(GAPS IN RESEARCH)</a:t>
            </a: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Megacities, urbanization and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ntegrated rather than sectoral or fragmented issu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limate change not taken into accou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search cooper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pacity of stakeholders to take up inform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certainty limits and knowledge about limits of uncertaint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search on co-design of knowledge systems that work in complex transformational situa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ppropriate information packaging and communic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775f55"/>
                </a:solidFill>
                <a:latin typeface="Tw Cen MT"/>
              </a:rPr>
              <a:t>. </a:t>
            </a:r>
            <a:r>
              <a:rPr b="0" lang="en-ZA" sz="3200" spc="-1" strike="noStrike">
                <a:solidFill>
                  <a:srgbClr val="775f55"/>
                </a:solidFill>
                <a:latin typeface="Tw Cen MT"/>
              </a:rPr>
              <a:t>Opportunities for collaboration between Future Earth and existing regional activiti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Cross fertiliz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Learning across network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Identification of experts and linking them, databases of researcher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Optimize and make use of existing centres of excellence (examples are Global Framework for Climate Services; UNESCO Groundwater Centres of Excellence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Match centre of excellence with network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Creating new centre of excellence around existing knowledge gap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Align research priorities with AU/sub-regional and national policie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Continental: AU, AMCOST, NEPAD, AMCOW, AMCEN, ADB, ICSU-ROA, ECA,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Regional: ECOWAS, EAC, ECCAS, SADC, DbSA, SARUA, RUFORUM, RCMRD, RECTAS, START, Special Development Initiatives (SDI’s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75f55"/>
                </a:solidFill>
                <a:latin typeface="Tw Cen MT"/>
              </a:rPr>
              <a:t>Future Earth Research Theme: Transformation towards Sustainability </a:t>
            </a:r>
            <a:br>
              <a:rPr sz="40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GB" sz="2500" spc="-1" strike="noStrike">
                <a:solidFill>
                  <a:srgbClr val="000000"/>
                </a:solidFill>
                <a:latin typeface="Tw Cen MT"/>
              </a:rPr>
              <a:t>Understanding and evaluating strategies for governing and managing the global environment across scales and sectors, to move towards a sustainable Future Earth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Rethink curricul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Popular commun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Innovative student for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Integration of knowledge for problem-solv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Lessons from Africa for the worl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Foster transdisciplinarity by addressing common “grand” challeng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Active engagement with civil societies and/or form civil societi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Think big – beyond national border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06:48Z</dcterms:created>
  <dc:creator>Tanja Hichert</dc:creator>
  <dc:description/>
  <dc:language>en-US</dc:language>
  <cp:lastModifiedBy>Dan Olago</cp:lastModifiedBy>
  <dcterms:modified xsi:type="dcterms:W3CDTF">2012-11-01T02:25:31Z</dcterms:modified>
  <cp:revision>36</cp:revision>
  <dc:subject/>
  <dc:title>PowerPoint Presentation</dc:title>
</cp:coreProperties>
</file>