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2D85-76F9-4838-99D6-4CEC25078F1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E444-5CF2-4F8A-8FD7-91D209586D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42D7-497F-4AF4-8527-19D7357F69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3045-E3CF-4382-97A2-B98C36B3EA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258-5963-4EF0-8C4E-EF3EB6CC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782-5C67-425F-AD68-1A6110A0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A9FC-301D-4DE5-B86A-0DC02602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A6C-A78C-4C73-B09B-C4BC27FC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A338-DFB5-4277-B32D-0382F347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945E-AFEA-4390-A8F9-DAC24A6A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9E65-5BFB-4194-8FB9-3686B0D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4D5F-B73F-4200-8371-18AC3E8B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14C0-BCF5-42DB-8D56-5B087977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0E2B-D95D-4D8C-BC54-04B4AEA2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F5B5-E477-44E0-9EB8-56AB500F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E02-A933-4940-A221-46904CEA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B919-6CB2-4DDA-AB20-542BF03D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AB0C-C023-4FF0-A83A-B564F7A4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5DC5-44C5-4F91-A63B-4F006E39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7281-12E8-44BF-A340-5EC9D8E3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79AC-900E-46E3-B7EE-423FDFA1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BF39C-D130-4CD5-B46B-5DB34F40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7605B-11D8-45B2-8B6B-BB670D79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695FC-3F85-41FD-B729-4A42C10B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4D4FC-AFAE-4E98-B356-9F8D83C2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AAB66-08E4-4455-B0CF-3AB6B0F0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D05-F426-454E-9890-4CB33C82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5665FE-2166-4CCE-8CF2-B1531AFC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8FDD3-7DE2-484F-9C65-B00107F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C63F5-6697-42E9-9B22-64690035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C162D-3282-43F0-B015-46C16A38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AF0C9-9CE0-4105-A13D-01B9D63C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0E48B-4169-45B0-B04C-5AA2375E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3EDE0-E7F1-4110-B914-83211690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2DD2E-D189-40AD-8860-41024491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A8C9D5-9973-4ED0-AC2C-E7A64DCB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76F96-A5E4-4A20-85A6-DBEDAF0F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31E-165C-4E96-94E0-2DED546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369C0-F006-4D5B-BE5B-5A9D89D5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21D4A-10AF-4A9C-83CA-D336DD99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7446C-38FB-4697-BEE9-4F982A65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01508-6D5E-492A-BD52-FB0411B5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3AC41-3788-47F6-9953-CC901CD7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D555B-3DF1-4392-80F2-CD73A3BC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47A683-5E2C-467D-89B9-8704692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30E010-5DE8-4B0C-9D08-DBF9C189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7304F9-34C0-4AA7-9806-E05BB972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AB765-2DDF-405A-BF22-D1DA3826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BE1-2C05-4181-A0F2-E231353F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D7890-85B1-40CA-8FEC-E6097D10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18983-0019-429C-B6DF-B50CEA7B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3BF3E-9BD8-4CD7-9C7E-C19497C5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5D7EE-C570-4A6B-B9F3-620726A9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CDE87A-E44D-49BE-9475-1607DFB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F2F9E-0EC9-48DF-A6C5-A0736388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26E0F5-E1BB-4E13-B5D9-D6836443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6F2A0-4725-4481-BB91-816A2F79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4B0DD1-76C3-435C-8BDC-17603B52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2B118-A9DC-4491-B6EA-B1AE3AA0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459-0E06-4002-ACDE-0C319B00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04AED7-854F-486B-A191-5DF8136B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D2F6A-9D32-4C49-B174-4B5B85C3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04356-56E6-4AB8-9E23-0233290C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338D4-D4F1-4770-B613-4272C9C1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CECB7-216B-4CE9-B04F-F2635F2E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06D1D-3364-42E4-8547-669A8BF8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31308-E832-495B-AA57-0DAB4474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E42A0-E9CB-4F6D-A8A8-92EB1935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42B1B-9E75-4326-82C2-72413A1A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A44EF-7235-4116-9A4F-3B272C29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604A-73B4-4FE9-B603-91D18BF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D6969-A671-41BE-AC04-83408E27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23EF5-082A-45C0-912E-7D81F70C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DCC5B-35C1-427C-B18E-8A7F75C2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7095EA-2C5C-4DB9-820E-8CF641CC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E4203D-65CA-4676-9F13-FAAF1832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057CA-CB84-46B1-87A4-2A514993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29C56-16F2-457C-98DC-737B1D50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1FA60-BCFE-4006-9D95-34377369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6791E9-F81E-4B1A-BCA1-A74755D0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5EA801-2A0A-43DF-B2BB-287A1C07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46C1-D0A6-45DD-A4D1-E3A3D79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0D862-0D90-431D-B128-20DDB8C1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893A0-0234-4E45-B2C2-23A4F74A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F0F2A0-FE0C-4013-B0E2-5FF2BF67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DBEA3-7385-4C59-8A8D-F2727BDE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9A8F5-807F-4FEC-982C-84505A93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3257B-776A-4C51-81F8-BFCE0DD58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5A9B9-4BC3-43D8-AA29-AD9E2324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AB649-BDE3-41F3-948E-876FE999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FD2E5-8636-42C3-BCFB-AA75969C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E8FBF-5E5E-4CB4-B00C-EA129052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A09-E6CA-44FF-89E2-3C2BB1AA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E1F5E-39E1-4F7A-8921-1B6D651C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B2C93-B560-4184-8B0A-9B3BC6E1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178F9-C436-40E2-9D94-64B56A33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D259F-7F4B-4649-8327-D4F097A6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56708-4622-4743-8C48-39FD35BC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040B-6635-4D51-95F7-EC2D3B38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992E0-B58B-4CF5-BB6F-07FDB23D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58D3-B440-4615-99DA-1F9F51CF4D89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C573-AD9F-448C-9A8C-FCABB12BC5A5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D41-2E91-4A4A-B034-789FB5617FA1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450C-D98F-4928-9249-EBF02B40FDD8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AEAE-D6CB-4C61-8B1E-89AD4863A6E2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A8D9-8106-4261-AD99-85EFCA2B0A54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7DEC-D107-47C2-9A84-98EF9B335F96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0903-7F80-498C-84BC-536021646204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75f55"/>
                </a:solidFill>
                <a:latin typeface="Tw Cen MT"/>
              </a:rPr>
              <a:t>Break-out session 1: Group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Chair: 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Olago, Daniel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Rapporteur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Olowoyo, Joshu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Transition Team member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Abrahamse, Tany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w Cen MT"/>
              </a:rPr>
              <a:t>Participants:</a:t>
            </a: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Clover, Jenny 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Colvin, John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Francis, Julius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Hewiston, Bruce 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Jakob, Rhyner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Matose, Frank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Niassy, Saliou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Thombiano, Adjima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w Cen MT"/>
              </a:rPr>
              <a:t>Yanda, Pius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775f55"/>
                </a:solidFill>
                <a:latin typeface="Tw Cen MT"/>
              </a:rPr>
              <a:t>Future Earth Research Theme: Global Development</a:t>
            </a:r>
            <a:endParaRPr b="0" lang="en-US" sz="3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roviding the knowledge for sustainable, secure and fair stewardship of food, water, health, energy, materials and other ecosystem servic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0000"/>
                </a:solidFill>
                <a:latin typeface="Tw Cen MT"/>
              </a:rPr>
              <a:t>See next sli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1. Research priorities relevant for Africa that can be linked to / integrated within the Future Earth research framework 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MAIN RESEARCH PRIORITIES (INCORPORATES BOTH DYNAMIC EARTH AND GLOBAL DEVELOPMENT PERSPECTIVES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Water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scarcity, efficiency, quality, quantity, availability, biodiversity, forests, equity, conflict and migration, institutions and management at regional level, pollution, transboundary, governance)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Land use and land management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access, productivity, degradation, use,  management, land tenure system, land lease, population)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Coastal zones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biodiversity, lack of resources, capacity building, fisheries, resource use, pollution, processes e.g. biogeochemical)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Critical zones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mountains, (rain)forests, marginal lands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Disease vulnerability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Megacities and impacts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 (urbanization, unplanned growth, resources demands, wastewater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Human well-being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social sustainability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Knowledge systems and practices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dealing with complex systems – Institutions, Networks, Markets, Hierarchies) to learn how to deal with transformational issue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w Cen MT"/>
              </a:rPr>
              <a:t>Uncertainties </a:t>
            </a: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( lack of data, what to do in the face of uncertainty – some information is independent of uncertainty)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75f55"/>
                </a:solidFill>
                <a:latin typeface="Tw Cen MT"/>
              </a:rPr>
              <a:t>Research priorities relevant for Africa that can be linked to / integrated within the Future Earth research framework (continued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CROSS-CUTTING RESEARCH PRIORITI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Uncertainty (data and models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Knowledge systems and practi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Pollution </a:t>
            </a:r>
            <a:r>
              <a:rPr b="0" lang="en-ZA" sz="2700" spc="-1" strike="noStrike">
                <a:solidFill>
                  <a:srgbClr val="000000"/>
                </a:solidFill>
                <a:latin typeface="Tw Cen MT"/>
              </a:rPr>
              <a:t>(e.g. trace metals, pop, monitoring system, mitigation, peri and urban agriculture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Institutional arrangements and scal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Livelihood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Food securit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Climate chang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0000"/>
                </a:solidFill>
                <a:latin typeface="Tw Cen MT"/>
              </a:rPr>
              <a:t>Migration</a:t>
            </a:r>
            <a:r>
              <a:rPr b="0" lang="en-ZA" sz="2700" spc="-1" strike="noStrike">
                <a:solidFill>
                  <a:srgbClr val="000000"/>
                </a:solidFill>
                <a:latin typeface="Tw Cen MT"/>
              </a:rPr>
              <a:t> (cross boarder migration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775f55"/>
                </a:solidFill>
                <a:latin typeface="Tw Cen MT"/>
              </a:rPr>
              <a:t>2. On-going regional activities / programmes, already dealing with these priorities. Gaps not being addressed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ater: Rhodes UNESCO NODE, Collaborative Water Research Network, Water Research Commission, WITS Univers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Land: ICRAF, PLAS, AIAS, CODESS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ountains: Afromont, Sae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oastal Zone: Marine RI (UC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egacities: African Centre for Ci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isease Vulnerabil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nowledge system vulnerability: SANBI,MEDUNSA, UKZN, CSIR,SAE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ollution: Enda, Medun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stitutional Arrangement: Cordes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775f55"/>
                </a:solidFill>
                <a:latin typeface="Tw Cen MT"/>
              </a:rPr>
              <a:t>3 </a:t>
            </a:r>
            <a:r>
              <a:rPr b="1" lang="en-ZA" sz="2800" spc="-1" strike="noStrike">
                <a:solidFill>
                  <a:srgbClr val="775f55"/>
                </a:solidFill>
                <a:latin typeface="Tw Cen MT"/>
              </a:rPr>
              <a:t>(GAPS IN RESEARCH)</a:t>
            </a:r>
            <a:r>
              <a:rPr b="1" lang="en-GB" sz="2800" spc="-1" strike="noStrike">
                <a:solidFill>
                  <a:srgbClr val="775f55"/>
                </a:solidFill>
                <a:latin typeface="Tw Cen MT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Megacities, urbanization and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ntegrated rather than sectoral or fragmented issu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limate change not taken into accou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search cooper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I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pacity of stakeholders to take up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certainty limits and knowledge about limits of uncertaint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Research on co-design of knowledge systems that work in complex transformational situat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ppropriate information packaging and communic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775f55"/>
                </a:solidFill>
                <a:latin typeface="Tw Cen MT"/>
              </a:rPr>
              <a:t>. </a:t>
            </a:r>
            <a:r>
              <a:rPr b="0" lang="en-ZA" sz="3200" spc="-1" strike="noStrike">
                <a:solidFill>
                  <a:srgbClr val="775f55"/>
                </a:solidFill>
                <a:latin typeface="Tw Cen MT"/>
              </a:rPr>
              <a:t>Opportunities for collaboration between Future Earth and existing regional activitie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Cross fertiliz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Learning across networ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Identification of experts and linking them, databases of researcher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Optimize and make use of existing centres of excellence (examples are Global Framework for Climate Services; UNESCO Groundwater Centres of Excellence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Match centre of excellence with network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Creating new centre of excellence around existing knowledge gap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Align research priorities with AU/sub-regional and national polici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Continental: AU, AMCOST, NEPAD, AMCOW, AMCEN, ADB, ICSU-ROA, ECA,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Tw Cen MT"/>
              </a:rPr>
              <a:t>Regional: ECOWAS, EAC, ECCAS, SADC, DbSA, SARUA, RUFORUM, RCMRD, RECTAS, START, Special Development Initiatives (SDI’s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75f55"/>
                </a:solidFill>
                <a:latin typeface="Tw Cen MT"/>
              </a:rPr>
              <a:t>Future Earth Research Theme: Transformation towards Sustainability </a:t>
            </a:r>
            <a:br>
              <a:rPr sz="40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GB" sz="2500" spc="-1" strike="noStrike">
                <a:solidFill>
                  <a:srgbClr val="000000"/>
                </a:solidFill>
                <a:latin typeface="Tw Cen MT"/>
              </a:rPr>
              <a:t>Understanding and evaluating strategies for governing and managing the global environment across scales and sectors, to move towards a sustainable Future Earth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Rethink curricul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Popular commun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Innovative student fora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Integration of knowledge for problem-solv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Lessons from Africa for the worl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Foster transdisciplinarity by addressing common “grand” challeng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Active engagement with civil societies and/or form civil societie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algn="just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Think big – beyond national border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06:48Z</dcterms:created>
  <dc:creator>Tanja Hichert</dc:creator>
  <dc:description/>
  <dc:language>en-US</dc:language>
  <cp:lastModifiedBy>Dan Olago</cp:lastModifiedBy>
  <dcterms:modified xsi:type="dcterms:W3CDTF">2012-11-01T02:25:31Z</dcterms:modified>
  <cp:revision>36</cp:revision>
  <dc:subject/>
  <dc:title>PowerPoint Presentation</dc:title>
</cp:coreProperties>
</file>